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</a:t>
            </a:r>
            <a:r>
              <a:rPr b="0" lang="en-GB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1 January 2006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- Version 4.0 - Page </a:t>
            </a:r>
            <a:fld id="{639FC39C-F533-4B21-973D-89D67427ED3C}" type="slidenum"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Capacity and load in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Resource load on running projects in PV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3360" y="197928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8038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360" y="4575240"/>
            <a:ext cx="564804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3360" y="251460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3200400"/>
            <a:ext cx="2900160" cy="2300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3360" y="3430440"/>
            <a:ext cx="397008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360" y="3659040"/>
            <a:ext cx="42750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3360" y="388764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3360" y="4116240"/>
            <a:ext cx="5038560" cy="230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3360" y="434664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297180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3360" y="2743200"/>
            <a:ext cx="122220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360" y="2666880"/>
            <a:ext cx="5800680" cy="213696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720" y="2997360"/>
            <a:ext cx="3585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in Primavera for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62080" y="483876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360" y="2514600"/>
            <a:ext cx="557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4640" y="2284560"/>
            <a:ext cx="935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in PM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584280" y="228456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4280" y="20559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4320" y="2286000"/>
            <a:ext cx="54183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2800" y="3657600"/>
            <a:ext cx="839880" cy="23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3430440"/>
            <a:ext cx="137340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4360" y="3201840"/>
            <a:ext cx="167832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4440" y="2971800"/>
            <a:ext cx="274824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2743200"/>
            <a:ext cx="3894120" cy="230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6480" y="2514600"/>
            <a:ext cx="44276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22840" y="3887640"/>
            <a:ext cx="6098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27760" y="411804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5320" y="2438280"/>
            <a:ext cx="253728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com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22840" y="2743200"/>
            <a:ext cx="106848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9080" y="3430440"/>
            <a:ext cx="2660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3360" y="45752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62080" y="457524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– overall pi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2680" y="707760"/>
            <a:ext cx="73933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203040" y="744480"/>
            <a:ext cx="739332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06400" y="77904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6400" y="36036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6400" y="3375000"/>
            <a:ext cx="564840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6400" y="131436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6400" y="2000160"/>
            <a:ext cx="2900520" cy="230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400" y="2230560"/>
            <a:ext cx="397044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6400" y="2459160"/>
            <a:ext cx="427536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6400" y="268776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00" y="2916360"/>
            <a:ext cx="5038920" cy="230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6400" y="314640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6400" y="177156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6400" y="1542960"/>
            <a:ext cx="122256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400" y="1467000"/>
            <a:ext cx="5800680" cy="213660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65960" y="1003320"/>
            <a:ext cx="1510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vera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390852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87320" y="36799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17720" y="3909960"/>
            <a:ext cx="54180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95840" y="5281560"/>
            <a:ext cx="839880" cy="230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62680" y="5054760"/>
            <a:ext cx="137304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57760" y="4826160"/>
            <a:ext cx="167796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7840" y="4595760"/>
            <a:ext cx="274788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3040" y="4367160"/>
            <a:ext cx="3894120" cy="23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9880" y="4138560"/>
            <a:ext cx="44272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26240" y="5511960"/>
            <a:ext cx="6094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30800" y="574200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25880" y="4367160"/>
            <a:ext cx="10681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1280" y="5221440"/>
            <a:ext cx="27522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al ongoing: Focus only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 of planned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6280" y="2992320"/>
            <a:ext cx="382680" cy="1984320"/>
          </a:xfrm>
          <a:prstGeom prst="downArrow">
            <a:avLst>
              <a:gd name="adj1" fmla="val 50000"/>
              <a:gd name="adj2" fmla="val 129633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25920" y="2235600"/>
            <a:ext cx="1126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45160" y="4792320"/>
            <a:ext cx="595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00" y="61992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393372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Load from coming projects 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orking time for a resourc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3360" y="1902960"/>
            <a:ext cx="0" cy="32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3360" y="5108400"/>
            <a:ext cx="511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3360" y="2514600"/>
            <a:ext cx="381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468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4680" y="2514600"/>
            <a:ext cx="763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9080" y="1521000"/>
            <a:ext cx="426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2244600"/>
            <a:ext cx="2063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560" y="5632560"/>
            <a:ext cx="8229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8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9760" y="48794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360" y="274320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4680" y="2743200"/>
            <a:ext cx="83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518840" y="1903320"/>
            <a:ext cx="45900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8520" y="2681280"/>
            <a:ext cx="1871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pro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633680"/>
            <a:ext cx="4572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6920" y="251460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mit shown in Primavera for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"/>
          <p:cNvSpPr/>
          <p:nvPr/>
        </p:nvSpPr>
        <p:spPr>
          <a:xfrm>
            <a:off x="909720" y="3181320"/>
            <a:ext cx="2900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09720" y="1577880"/>
            <a:ext cx="1440" cy="16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972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8320" y="2036880"/>
            <a:ext cx="230040" cy="1144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960" y="2189160"/>
            <a:ext cx="228600" cy="992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5560" y="1959120"/>
            <a:ext cx="228600" cy="1222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4160" y="2646360"/>
            <a:ext cx="228600" cy="5349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4560" y="2265480"/>
            <a:ext cx="228600" cy="915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3160" y="2417760"/>
            <a:ext cx="228600" cy="763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9720" y="1884240"/>
            <a:ext cx="2367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200" bIns="-70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1760" y="2570040"/>
            <a:ext cx="228600" cy="611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1730520"/>
            <a:ext cx="75960" cy="152280"/>
          </a:xfrm>
          <a:custGeom>
            <a:avLst/>
            <a:gdLst>
              <a:gd name="textAreaLeft" fmla="*/ 0 w 75960"/>
              <a:gd name="textAreaRight" fmla="*/ 27360 w 7596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9720" y="1730520"/>
            <a:ext cx="2367000" cy="1440"/>
          </a:xfrm>
          <a:prstGeom prst="line">
            <a:avLst/>
          </a:prstGeom>
          <a:ln w="32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0440" y="1630440"/>
            <a:ext cx="3474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49960" y="1197000"/>
            <a:ext cx="1621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82400" y="1425600"/>
            <a:ext cx="38268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7840" y="2092320"/>
            <a:ext cx="185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shown in Primav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11000" y="1960200"/>
            <a:ext cx="306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720" y="3540240"/>
            <a:ext cx="366408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imit shown in Primavera is individual for each re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aily working time from the contract is reduced by 0,5 hours to take in account that a resource cannot be 100% product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anularity in Primavera for the limit should be not lower than 0,5 h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 limit in Primavera has to be set according to the following tab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" y="1204920"/>
            <a:ext cx="527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40360" y="3132000"/>
            <a:ext cx="4419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clus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rimavera planning tool cover approved running projects. Valid from M0, C0, I0, …. (the pre-work to be booked in a Pre M0, Pre C0, Pre I0,.. project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future projects are planned only in PMC.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refore only in PMC we have the complete picture regarding planned loa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limit for working time in Primavera show the contract working time reduced by 0,5 hour to leave space for the non productive work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8:00:02Z</dcterms:created>
  <dc:creator>Finn Møller Jensen</dc:creator>
  <dc:description>Version 4.0</dc:description>
  <dc:language>en-US</dc:language>
  <cp:lastModifiedBy>Ole Sletting Madsen</cp:lastModifiedBy>
  <dcterms:modified xsi:type="dcterms:W3CDTF">2006-03-07T14:24:43Z</dcterms:modified>
  <cp:revision>5</cp:revision>
  <dc:subject/>
  <dc:title>Capacity and load in Primavera</dc:title>
</cp:coreProperties>
</file>